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07A-434B-4B62-9780-2BDF84A5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5B3-960C-4EFE-B88F-7CB1BFB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C912D-E2D8-4E2C-BF61-BDD618F0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EECA1-627B-4E4F-BA6D-08FC03A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B3E6D-9974-4C9E-9726-FB889250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0285-226A-48CB-98EB-2FCE32E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796B8-F752-44DA-ABFF-14F8A12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C882C-3F8E-4F3E-879F-B585D15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A5160-4F80-4238-B3C8-CF747C84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313FC-1970-41B9-BE6E-33B6B11D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049E4-4B10-491B-A835-36E1A34F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9B478-88D9-4938-900C-91156B40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64-3606-4370-BEF3-8BB6B7EB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61C9-6CC7-44D1-A610-DB2526F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6562C-89ED-4B5E-9487-016705C0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9B146-E1EE-4CD1-B24A-E50D1EDF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0585D-D7BA-4D81-8782-79E98855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B5F27-31B0-4792-81AF-68FD737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64C11-B6D7-4405-AD91-42BDD3D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2E403-30AA-44C7-A87D-91549F9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CBCE2-356A-482B-BF90-7D878E1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B143B-B463-4007-AFBF-474082A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00B81-E2AD-48B6-BB8A-E16B3AE5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F42-127B-4B10-A5F6-74E73516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CB480-95A1-449D-BFC3-1610A62C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75343-6836-40D5-855A-4B797228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B621-74BA-4058-9AD8-AC60F54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EF4A-BBD2-4D44-A94D-28CB12E4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34F1-73CB-4887-BA60-A102E52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342CA-65EC-45BE-AA4D-D96476A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2DB63-80F2-480B-9E19-0F780DF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39CF-0E22-4A24-92E4-43BD94F6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740F-C685-4F14-AB45-F7FB336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55700-2D6B-4B8D-95B8-9F3E239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451-F92F-4F60-9E86-D88F1F78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087C7-A878-4B5D-AE5B-07F1A056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BF74E-F633-42FE-BE60-949CA6D4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9C97C-DA1A-4B42-B4D0-CEF1787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031AB-FBE2-4150-AA3B-5120FEBA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4DED3-09F6-46B7-B25E-87E7ECB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E3B4D-2A4C-4FB0-ADD1-EAF7384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BCFD0-C3DB-400B-A2D8-57758C0A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89947-6220-47E7-8696-B3050A7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D7A3F-AAE1-4C1A-807B-AA57540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35ABF-B7B0-4AC9-8D70-8C30572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D7BB-C593-4793-9C09-B9C33C6E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D3EE1-556E-4743-B4B1-8A53307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F3129-05DB-4ECF-8012-EB0F760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FCBB0-DB89-4E9D-B934-E7CAFA50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3ED22-C5F2-4082-AC55-E01AFDDF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6F9F8-E4E4-45C1-8B97-B7755CB6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0C99-44FD-4EF8-B7BA-0BF832D1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3358-BB7B-411C-B69E-83CF6AD9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90F-3C44-43FB-9986-C9AA733F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4A14-1EDE-450D-888C-2750161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A0D-D1CA-4546-808D-5F976CF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76D-2AC5-4FD7-AF1C-DC3ADC3E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1102-7FC2-4CE1-B026-CB5EAF5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8769-5D13-488B-BCFD-366C90F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9B0A-509E-4D2D-960D-3C68875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76F9-67D0-4EBB-B396-D75143CF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ACD-44DE-422F-ACC3-91E1E598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24F6-AB01-4B2F-9FEF-04FEAB60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27BC-FF56-4487-B62C-91BF5993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A93D-85A5-457C-BC59-7A78604B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1087-0B32-4DB8-A8C3-BC48540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A098-CF63-4567-84D2-11DDF5D1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1AA-F30F-4697-8E4B-3C81AFC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FC60-7C03-4523-A4E6-240F19B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DF12-424B-4686-9646-3FE2551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D908-83A9-4FAD-B7C7-44491CA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8315-02CD-497B-A5BD-B4A4A20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75D5-7825-4825-A291-09CD0BA2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CD5B-5F55-4323-BE49-19F0FA3F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7968-D2FF-4D87-B991-132A8BB8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F80D-CED6-4C5F-BE27-7B183B52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4F2B-E449-468E-8CAC-A85E4EB7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8E27-DB35-46E1-AFB5-7B1113E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102-672E-4926-B07A-D710AF36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101C-2FB8-45EC-8208-E6549AF1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35CF-ADBD-49A8-BFB8-6FC82D2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0EDE-1C94-4265-89EA-0F83ED8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F62C-79F7-4328-8201-54AA337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6FF8-2B23-49B9-8A68-1A243A2B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0C3C-8423-4205-8977-D5C4031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7EEB-0F0E-4E10-88DE-865C5141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CA5B-8D32-4F0D-84EA-7A3853C1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5A51-F831-41EB-B365-7C8F328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9213-8497-42F2-9574-5AE5C7BA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D97-7682-4389-9D73-08EE5368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194C-AEBE-4F6F-87D4-CB058F6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84EF-C057-4ED4-B993-B7E5E3E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6028-C672-428F-B47D-725ED9A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8000-27D1-478C-A662-380BAC44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44B14-F266-4088-8D9A-47BFCAF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0807-F086-45FB-9D05-F9E06E1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1838-68C7-49EE-9411-7C51F55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F179-3C75-4E09-96CE-2C4CFBB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E987-AC7D-4E70-82D3-FF091CA4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D335-0ECE-4EC0-B784-0DFEBF29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E26-5B5D-4393-A4F0-7EA26FA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9F6B-45BD-4E9A-8EE3-548EE3D3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C0E2-AEEA-4314-9B40-5945B5AB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8B60-EC2C-4939-8358-1BF087D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F95C6-900D-4D7D-B85C-97E0202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F459-8CB9-4C9B-8272-8167893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9811-2D8B-4EDB-AB9E-353B094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9AC2-B1D9-4DFB-A5E9-1623626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D4AF-AC39-411D-A648-D66D244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48DB-F052-481A-A13A-11F0D21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C57E-C760-4CB5-B773-CCAE044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FEE-8C0D-4B35-A1B4-DDEE38F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FA57-0571-4ADC-8D86-F9162181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6C73-21DA-4243-91EE-B36A021F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4CC8-3348-432D-8A9D-8C670ED4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9ECE-B7C2-4F6D-B139-8D67C000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34684-955A-41BC-AD2C-FC4055FC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4FEA-2E3C-4266-B15E-D685EA53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401D2-3BF7-4CFF-8F7E-83FA2AF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0821-4F4A-461C-9EEE-1EBE0655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E4111-9FEB-4B97-8DF2-EF69618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4EBF-0D52-4D88-A124-546E92A2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BA3-B4B3-49F2-9A4C-92F3804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32C3-3067-4DB6-8572-965F805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E7EB-4E05-4162-B797-B301AB07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A5B7-6734-493A-9B88-D64C2316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11CD-1300-4509-8BF1-D7A315FE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C1049-C939-4061-B841-A7FFC63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1921-065B-4C48-BD78-F12DB8CD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4CABB-33FC-458D-9851-484BF2F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0212-C327-4156-89B5-E7887CEA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7D99F-D7C2-4395-926C-61E6E60F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4D1E-13D7-465E-BCF7-8F7101DE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D0D-714C-4F63-B154-E5EB6F3B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684C-D6BF-4CAD-9BAC-2EE6890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5C05-E6CC-49B1-B48E-8382C990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56237-22F0-4E48-BBDC-C268589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CA39-C767-4325-A1F2-C6C630AE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A5DE-E12C-4521-807E-935D8FF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1FB5-933B-4D8E-AAD6-8BAF146A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7BC6-2642-4B32-BD16-E1724A62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242DF-2970-4520-9159-F8605B4F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2467-02FA-4597-8C5F-26200FC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DDF21-8E49-4AA4-A173-111E318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998-EE99-4C37-9C42-710F6AF99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AF9-8347-4404-8E49-A5C2F480F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884-517F-4DF2-85AB-70119B8EA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C1F-E6C0-45E6-A544-CD872E6D4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C319-222E-4C40-8E7B-46D65C2C4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DA8-7073-4455-B8F8-21C3A135E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DBCE-F407-4CE4-A9AD-5281B5BDA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519-37E0-439E-B5AD-C973B174B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777-5A75-4070-979F-3906804E8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7F8B-EA56-4DA9-A7DB-0FDDCF4D3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E2C-56B5-4B7E-B3CD-2AFA09E00E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80FD-3120-478E-8DD2-F5C1EEC47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46b86"/>
                </a:solidFill>
                <a:latin typeface="Georgia"/>
              </a:rPr>
              <a:t>AMELIA VEN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ake Bos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4004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646b86"/>
                </a:solidFill>
                <a:latin typeface="Georgia"/>
              </a:rPr>
              <a:t>Trois niveaux en bonbons pour gâteaux</a:t>
            </a:r>
            <a:endParaRPr b="0" lang="en-US" sz="2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s gâteau ecce est  une très bon gâteau  par Buddy le Cake Bos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4249800" y="544680"/>
            <a:ext cx="35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7b9899"/>
                </a:solidFill>
                <a:latin typeface="Georgia"/>
              </a:rPr>
              <a:t>Des Fausses Réalité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rant les émissions de Cake Boss je pense que les producteurs choisie les gâteaux qui sont plus populaire pour être sur l'émission</a:t>
            </a: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Les autres gâteau qui sont petit et ordinaire gâteau ne sont pas populai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Une deux paliers comique livre gâteau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 gâteau ecce est très colorable . C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’e</a:t>
            </a: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st très belle est des personnes voulez regarder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4013280" y="533520"/>
            <a:ext cx="4075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7b9899"/>
                </a:solidFill>
                <a:latin typeface="Georgia"/>
              </a:rPr>
              <a:t>Est le gâteau brillan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680" y="1371600"/>
            <a:ext cx="42703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Les personnes est regardez l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émission pour les gâteau plus populaire. Si un gâteau est n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a pas brillant puis les personnes arrêtez regardez l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fr-CA" sz="2500" spc="-1" strike="noStrike">
                <a:solidFill>
                  <a:srgbClr val="000000"/>
                </a:solidFill>
                <a:latin typeface="Georgia"/>
              </a:rPr>
              <a:t>émissi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77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46b86"/>
                </a:solidFill>
                <a:latin typeface="Georgia"/>
              </a:rPr>
              <a:t>Gâteau Coffre aux trésor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Les gâteau ecce est très brillant. Il semble très réel. Les personnes regardez le Cake Boss préparation le gâteau et ils est très content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58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7b9899"/>
                </a:solidFill>
                <a:latin typeface="Georgia"/>
              </a:rPr>
              <a:t>Le gâteau est plus gr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—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ur une personne comme moi, une grande gâteaux n'a pas possible. Les personnes sur l'émission est très bonne à la préparation à un gâtea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st-ce qu'une personne avec sans de compétences cuire un grand gâteau? N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Un autre exemple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Georgia"/>
              </a:rPr>
              <a:t>Est-ce que tu regardez un émission avec un garçon préparation le gâteau ecce. Je pence que non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16:45Z</dcterms:created>
  <dc:creator>A satisfied Microsoft Office User</dc:creator>
  <dc:description/>
  <dc:language>en-US</dc:language>
  <cp:lastModifiedBy>A satisfied Microsoft Office User</cp:lastModifiedBy>
  <dcterms:modified xsi:type="dcterms:W3CDTF">2011-02-24T16:56:49Z</dcterms:modified>
  <cp:revision>13</cp:revision>
  <dc:subject/>
  <dc:title>Cake Boss</dc:title>
</cp:coreProperties>
</file>